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8.jpeg" ContentType="image/jpeg"/>
  <Override PartName="/ppt/media/image12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720263" cy="64801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4D02-2F04-4166-831A-EF90B2CA7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1280" y="216000"/>
            <a:ext cx="8263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5640" y="1782360"/>
            <a:ext cx="8694720" cy="18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640" y="3841200"/>
            <a:ext cx="8694720" cy="18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B722-07EC-4371-A6F3-C6921370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1280" y="216000"/>
            <a:ext cx="8263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85640" y="1782360"/>
            <a:ext cx="4242960" cy="18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1000" y="1782360"/>
            <a:ext cx="4242960" cy="18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85640" y="3841200"/>
            <a:ext cx="4242960" cy="18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41000" y="3841200"/>
            <a:ext cx="4242960" cy="18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B78D-6A06-4D36-A623-4E33DE11E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1280" y="216000"/>
            <a:ext cx="8263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85640" y="1782360"/>
            <a:ext cx="2799360" cy="18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25400" y="1782360"/>
            <a:ext cx="2799360" cy="18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65160" y="1782360"/>
            <a:ext cx="2799360" cy="18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5640" y="3841200"/>
            <a:ext cx="2799360" cy="18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25400" y="3841200"/>
            <a:ext cx="2799360" cy="18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65160" y="3841200"/>
            <a:ext cx="2799360" cy="18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F388-5101-48CF-BA29-225930D10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DA7E1-2E8C-48E1-B455-A0CADF9D6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1280" y="216000"/>
            <a:ext cx="8263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85640" y="1782360"/>
            <a:ext cx="8694720" cy="39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96C7-5F2C-4313-84B6-A6EF0737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1280" y="216000"/>
            <a:ext cx="8263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5640" y="1782360"/>
            <a:ext cx="869472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37A2-15C5-47DD-9B67-BFCA8FFC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1280" y="216000"/>
            <a:ext cx="8263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85640" y="1782360"/>
            <a:ext cx="424296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41000" y="1782360"/>
            <a:ext cx="424296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2140-2EA1-4FE1-9D58-C415A1FF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1280" y="216000"/>
            <a:ext cx="8263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66A88-C0AE-406C-A8BE-09FF025A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1280" y="216000"/>
            <a:ext cx="826308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887B-4D66-43A8-82CF-97559E74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1280" y="216000"/>
            <a:ext cx="8263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85640" y="1782360"/>
            <a:ext cx="4242960" cy="18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41000" y="1782360"/>
            <a:ext cx="424296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5640" y="3841200"/>
            <a:ext cx="4242960" cy="18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D15B-FE48-419A-A030-D6165418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1280" y="216000"/>
            <a:ext cx="8263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85640" y="1782360"/>
            <a:ext cx="8694720" cy="39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BACE-AC6C-4DFB-8B22-0C3703F7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1280" y="216000"/>
            <a:ext cx="8263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85640" y="1782360"/>
            <a:ext cx="424296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41000" y="1782360"/>
            <a:ext cx="4242960" cy="18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41000" y="3841200"/>
            <a:ext cx="4242960" cy="18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F946-8B1C-49F7-A0ED-0AA0E0A6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1280" y="216000"/>
            <a:ext cx="8263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5640" y="1782360"/>
            <a:ext cx="4242960" cy="18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782360"/>
            <a:ext cx="4242960" cy="18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5640" y="3841200"/>
            <a:ext cx="8694720" cy="18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C354-0A93-4098-8AF7-CB20928C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1280" y="216000"/>
            <a:ext cx="8263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85640" y="1782360"/>
            <a:ext cx="8694720" cy="18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5640" y="3841200"/>
            <a:ext cx="8694720" cy="18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B45B-C945-4AFC-8869-CDCB207B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1280" y="216000"/>
            <a:ext cx="8263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85640" y="1782360"/>
            <a:ext cx="4242960" cy="18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782360"/>
            <a:ext cx="4242960" cy="18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5640" y="3841200"/>
            <a:ext cx="4242960" cy="18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41000" y="3841200"/>
            <a:ext cx="4242960" cy="18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512F-EBF4-447F-9C11-63F44CF1A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1280" y="216000"/>
            <a:ext cx="8263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85640" y="1782360"/>
            <a:ext cx="2799360" cy="18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25400" y="1782360"/>
            <a:ext cx="2799360" cy="18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65160" y="1782360"/>
            <a:ext cx="2799360" cy="18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5640" y="3841200"/>
            <a:ext cx="2799360" cy="18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25400" y="3841200"/>
            <a:ext cx="2799360" cy="18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65160" y="3841200"/>
            <a:ext cx="2799360" cy="18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47D1-478B-45D7-8B61-D32A3AFFD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1280" y="216000"/>
            <a:ext cx="8263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5640" y="1782360"/>
            <a:ext cx="869472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7B7E-3FCD-43FC-A36C-03BB1704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1280" y="216000"/>
            <a:ext cx="8263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85640" y="1782360"/>
            <a:ext cx="424296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41000" y="1782360"/>
            <a:ext cx="424296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33F2-837F-4B5D-9B5E-29EFED8E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1280" y="216000"/>
            <a:ext cx="8263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C5E5-F476-4696-9E52-C6521290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1280" y="216000"/>
            <a:ext cx="826308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5D27-50AB-4377-9CB9-A83F0332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1280" y="216000"/>
            <a:ext cx="8263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85640" y="1782360"/>
            <a:ext cx="4242960" cy="18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41000" y="1782360"/>
            <a:ext cx="424296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5640" y="3841200"/>
            <a:ext cx="4242960" cy="18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AFD0-0407-4796-9993-F9D7D9A0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1280" y="216000"/>
            <a:ext cx="8263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85640" y="1782360"/>
            <a:ext cx="424296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1000" y="1782360"/>
            <a:ext cx="4242960" cy="18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41000" y="3841200"/>
            <a:ext cx="4242960" cy="18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A0D6-AE35-4AEE-A866-D4678733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1280" y="216000"/>
            <a:ext cx="8263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85640" y="1782360"/>
            <a:ext cx="4242960" cy="18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782360"/>
            <a:ext cx="4242960" cy="18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5640" y="3841200"/>
            <a:ext cx="8694720" cy="18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DADE-D9AF-482B-B118-D5FC1272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1280" y="216000"/>
            <a:ext cx="8263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640" y="1782360"/>
            <a:ext cx="869472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8280" y="5886360"/>
            <a:ext cx="20257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0640" y="5886360"/>
            <a:ext cx="3078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55000" y="5886360"/>
            <a:ext cx="2025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A9D2-DF40-42EB-88EC-5270270AF1F1}" type="slidenum">
              <a:rPr b="0" lang="fr-F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71640" y="1241280"/>
            <a:ext cx="8748720" cy="36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640" y="287280"/>
            <a:ext cx="820872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55640" y="5886360"/>
            <a:ext cx="205272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347640" y="5886360"/>
            <a:ext cx="302436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020000" y="5886360"/>
            <a:ext cx="194472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F916-EAA2-46C4-8BF8-36807470D4E8}" type="slidenum">
              <a:rPr b="0" lang="fr-F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71640" y="1728720"/>
            <a:ext cx="8748720" cy="3621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86000" y="1516320"/>
            <a:ext cx="874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72036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AlgoAtomD</a:t>
            </a:r>
            <a:endParaRPr b="0" lang="en-US" sz="7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209680" y="2057400"/>
            <a:ext cx="5605560" cy="397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goAtomD 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E6B8-C852-4267-AEB1-249B300DC808}" type="slidenum">
              <a:t>1</a:t>
            </a:fld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720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Solution proposée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"/>
          <p:cNvSpPr/>
          <p:nvPr/>
        </p:nvSpPr>
        <p:spPr>
          <a:xfrm>
            <a:off x="1676520" y="1981080"/>
            <a:ext cx="7734240" cy="38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Réalisation d'algorithmes pour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- L'atome se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- La lig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- Le tap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- Le cub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- La ro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70080" y="3030480"/>
            <a:ext cx="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goAtomD 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10DC2-47D9-4622-8E9D-F814EEF0EF10}" type="slidenum">
              <a:t>10</a:t>
            </a:fld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9720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Solution proposée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"/>
          <p:cNvSpPr/>
          <p:nvPr/>
        </p:nvSpPr>
        <p:spPr>
          <a:xfrm>
            <a:off x="1600200" y="2057400"/>
            <a:ext cx="7734240" cy="38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Une interface simplifiant l'utilisation des algorithmes 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- Choix de la moléc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- Choix de la tail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- Choix du déplac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- Choix du point d'arrivé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- Chronométrage du déplac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70080" y="3030480"/>
            <a:ext cx="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goAtomD 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2105-8E86-4679-8E28-82EAD31A02E0}" type="slidenum">
              <a:t>11</a:t>
            </a:fld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9720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Solution proposée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2057400"/>
            <a:ext cx="7734240" cy="29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Les fonctionnalités à implanter en priorité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- Synchronisation entre mouv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- Prise en compte des frottements par l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simulateu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70080" y="3030480"/>
            <a:ext cx="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goAtomD 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8EA4-0C30-4854-8E55-B6DD5F412429}" type="slidenum">
              <a:t>12</a:t>
            </a:fld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9720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Solution proposée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1447920" y="2743200"/>
            <a:ext cx="7734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Diagramme de Classes résultant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70080" y="3030480"/>
            <a:ext cx="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goAtomD 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A92D-A466-4736-8CDA-73D92E187705}" type="slidenum">
              <a:t>13</a:t>
            </a:fld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q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9524880" cy="5791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AtomD 200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86B4-5CC3-482C-B646-2D827566AC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9720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2323dc"/>
                </a:solidFill>
                <a:latin typeface="Comic Sans MS"/>
              </a:rPr>
              <a:t>Ce qui a été réalisé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2133720"/>
            <a:ext cx="7734600" cy="34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Une synchronis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Localisation des problèmes dans l'AP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L'interface utilisateu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L’intégration des algorith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70080" y="3030480"/>
            <a:ext cx="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goAtomD 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589BB-B2A9-42F9-BA1C-374CFD41C780}" type="slidenum">
              <a:t>15</a:t>
            </a:fld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9720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Ce qui a été réalisé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1905120"/>
            <a:ext cx="773460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Au niveau de la synchronisation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- Possibilité de pouvoir définir des points d'att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70080" y="3030480"/>
            <a:ext cx="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371600" y="3429000"/>
            <a:ext cx="3648240" cy="2030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181480" y="3429000"/>
            <a:ext cx="419760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code sans la fonctionnalitée (mais problème d'ordonnancement) 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atoms[k]-&gt;getLeg(2)-&gt;getServoMotor(0)-&gt;setTargetPosition(127,KEEP)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atoms[k]-&gt;getLeg(2)-&gt;getServoMotor(1)-&gt;setTargetPosition(0,KEEP)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atoms[k]-&gt;getLeg(2)-&gt;getServoMotor(0)-&gt;setTargetPosition(255,KEEP)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atoms[k]-&gt;getLeg(2)-&gt;getServoMotor(1)-&gt;setTargetPosition(255,KEEP)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Code avec la fonctionnalité 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atoms[k]-&gt;getLeg(2)-&gt;getServoMotor(0)-&gt;setTargetPosition(127,KEEP)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atoms[k]-&gt;getLeg(2)-&gt;getServoMotor(1)-&gt;setTargetPosition(0,KEEP)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atoms[k]-&gt;getLeg(2)-&gt;setWaitingPoint();</a:t>
            </a:r>
            <a:r>
              <a:rPr b="0" lang="en-US" sz="1100" spc="-1" strike="noStrike">
                <a:solidFill>
                  <a:srgbClr val="00ae00"/>
                </a:solidFill>
                <a:latin typeface="Times New Roman"/>
                <a:ea typeface="Kochi Gothic"/>
              </a:rPr>
              <a:t> //nouvelle fonctionnalité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atoms[k]-&gt;getLeg(2)-&gt;getServoMotor(0)-&gt;setTargetPosition(255,KEEP)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atoms[k]-&gt;getLeg(2)-&gt;getServoMotor(1)-&gt;setTargetPosition(255,KEEP)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7920" y="5562720"/>
            <a:ext cx="7889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Cette méthode permet de synchroniser les mouvements d'une seule pa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goAtomD 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A5DB-E238-4181-A399-31DF66B81478}" type="slidenum">
              <a:t>16</a:t>
            </a:fld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9720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Ce qui a été réalisé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1508040" y="2027160"/>
            <a:ext cx="7734240" cy="38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L'implantation finale dans l'API permet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- La synchronisation des mouvements de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pattes d’une moléc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- L’association d’une commande à un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groupe et la possibilité de savoir si le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commandes d’un groupe sont terminé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70080" y="3030480"/>
            <a:ext cx="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goAtomD 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F235-058A-46BA-82FF-863E98ADE2D5}" type="slidenum">
              <a:t>17</a:t>
            </a:fld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9720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Ce qui a été réalisé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"/>
          <p:cNvSpPr/>
          <p:nvPr/>
        </p:nvSpPr>
        <p:spPr>
          <a:xfrm>
            <a:off x="1508040" y="2027160"/>
            <a:ext cx="7734240" cy="36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Les problèmes résolus de l'API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- Pas de problème maje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- Les positions renvoyées pa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'getPosition()'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étaient fau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- L'appel à la fonctio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'isConnectable()'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provoquait un arrêt du programme quand la patte était déjà connecté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70080" y="3030480"/>
            <a:ext cx="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goAtomD 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E54DD-7236-48B8-BAF1-B0B731E2784E}" type="slidenum">
              <a:t>18</a:t>
            </a:fld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9720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Ce qui a été réalisé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"/>
          <p:cNvSpPr/>
          <p:nvPr/>
        </p:nvSpPr>
        <p:spPr>
          <a:xfrm>
            <a:off x="1523880" y="2057400"/>
            <a:ext cx="7734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L'interface mise en plac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030480"/>
            <a:ext cx="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590920" y="2514600"/>
          <a:ext cx="4433760" cy="355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514600"/>
                    <a:ext cx="443376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 flipV="1">
            <a:off x="1828800" y="281952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781320" y="54100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4191120" y="2666880"/>
            <a:ext cx="30477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905120" y="3048120"/>
            <a:ext cx="167616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1240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Nom de l ’at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15200" y="34290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aramètre de co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41148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Numéro de l’algorith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43800" y="5105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Temps simul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goAtomD 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FA96-80BA-4183-BEA9-B232A0DB6D92}" type="slidenum">
              <a:t>19</a:t>
            </a:fld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31280" y="216000"/>
            <a:ext cx="8263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Sommaire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2286000"/>
            <a:ext cx="6781680" cy="26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é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Nimbus Roman No9 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ésentation de l ’exi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Nimbus Roman No9 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ahier des char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Nimbus Roman No9 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lution Propos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Nimbus Roman No9 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e qui a été réalis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Nimbus Roman No9 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e qui reste à f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Nimbus Roman No9 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AtomD 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83E3-D83F-4EBE-81E3-97C7A8FEC7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9720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Ce qui a été réalisé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5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1371600" y="2057400"/>
            <a:ext cx="773424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Les algorithmes  intégré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- L’atome seul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- Déplacement par gliss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- Déplacement par glissement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avec 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- Déplacement par bascul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70080" y="3030480"/>
            <a:ext cx="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frame0007" descr=""/>
          <p:cNvPicPr/>
          <p:nvPr/>
        </p:nvPicPr>
        <p:blipFill>
          <a:blip r:embed="rId1"/>
          <a:stretch/>
        </p:blipFill>
        <p:spPr>
          <a:xfrm>
            <a:off x="228600" y="2743200"/>
            <a:ext cx="3886200" cy="310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goAtomD 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1B0A-C410-4434-9D79-66E4C462AE67}" type="slidenum">
              <a:t>20</a:t>
            </a:fld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216000"/>
            <a:ext cx="9720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Exemple d ’algorithme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HoRoCo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752480"/>
            <a:ext cx="739116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Horocol pour l’atome seul rouleu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OOP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arOfSeq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Where nbPatteDevant ==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escendre patte de devant à 45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SeqOfPar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Mettre les pattes droite et gauche en arrière haut à 45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Where nbPatteDevant =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SeqOfPar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escendre pattes de devant à 45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escendre patte de devant à 45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AtomD 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7CCD-3C92-4C38-AC48-7E0041E81D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228600"/>
            <a:ext cx="972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362320" y="1690560"/>
            <a:ext cx="5105160" cy="4138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447920" y="304920"/>
            <a:ext cx="81532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Déplacement par roule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AtomD 200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A1BF-1DDE-4194-9E35-2AC86ACE3C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228600"/>
            <a:ext cx="972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362320" y="1676520"/>
            <a:ext cx="5257800" cy="42624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33520" y="380880"/>
            <a:ext cx="91868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Déplacement par glisse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AtomD 200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E8BD-AF9A-4F98-BBDA-B8748669800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720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Ce qui a été réalisé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6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"/>
          <p:cNvSpPr/>
          <p:nvPr/>
        </p:nvSpPr>
        <p:spPr>
          <a:xfrm>
            <a:off x="1555560" y="1827360"/>
            <a:ext cx="480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L’ intelligence artificiell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atom_seul_detection_zone" descr=""/>
          <p:cNvPicPr/>
          <p:nvPr/>
        </p:nvPicPr>
        <p:blipFill>
          <a:blip r:embed="rId1"/>
          <a:stretch/>
        </p:blipFill>
        <p:spPr>
          <a:xfrm>
            <a:off x="3352680" y="2514600"/>
            <a:ext cx="3353040" cy="3328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AtomD 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E811-F8AE-4BA6-83B2-C8644F724A0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9720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Ce qui a été réalisé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7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"/>
          <p:cNvSpPr/>
          <p:nvPr/>
        </p:nvSpPr>
        <p:spPr>
          <a:xfrm>
            <a:off x="1986120" y="3048120"/>
            <a:ext cx="7734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- La ligne d'atom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- déplacement parallè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- déplacement altern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70080" y="3030480"/>
            <a:ext cx="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frame0010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3962160" cy="316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goAtomD 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FF63-4CD4-4FC5-8F91-D51906F7EF2C}" type="slidenum">
              <a:t>25</a:t>
            </a:fld>
          </a:p>
        </p:txBody>
      </p:sp>
    </p:spTree>
  </p:cSld>
  <p:transition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5410080" cy="4145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0" y="228600"/>
            <a:ext cx="972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Déplacement parallè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AtomD 200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A472-5C4B-4138-908E-AA2856498DB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514600" y="1676520"/>
            <a:ext cx="5257800" cy="42624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0" y="228600"/>
            <a:ext cx="972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Déplacement altern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AtomD 200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30AC-F701-49EF-8A18-46C8FD0FDB8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9720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Ce qui a été réalisé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8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2286000"/>
            <a:ext cx="7734600" cy="20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- Le tapis d'atom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- déplacement en dami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- déplacement en damier avec 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70080" y="3030480"/>
            <a:ext cx="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frame0015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3657600" cy="2925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goAtomD 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A0BA-9AC3-4735-A9D7-FA6853EA9A02}" type="slidenum">
              <a:t>28</a:t>
            </a:fld>
          </a:p>
        </p:txBody>
      </p:sp>
    </p:spTree>
  </p:cSld>
  <p:transition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31280" y="216000"/>
            <a:ext cx="8263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808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Déplacement en damier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362320" y="1676520"/>
            <a:ext cx="5257800" cy="42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AtomD 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7CE6-DAFC-42DE-8215-421B296819A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216000"/>
            <a:ext cx="9720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Présentation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2590920"/>
            <a:ext cx="720720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- Michel Dubois : maître d’œuv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- Yann Le Guyadec : le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- Ronan Le Grand : chef de proj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- Olivier Boucard : responsable commun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- Sébastien Hillai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- Anthony Schmit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AtomD 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0F7F-F36D-4F9E-9EF7-F496454C0A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362320" y="1676520"/>
            <a:ext cx="5257800" cy="4263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228600"/>
            <a:ext cx="972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Déplacement en damier avec 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AtomD 200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B48B-B63E-4BEC-B906-E0C78F52DBF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972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Ce qui a été réalisé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9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"/>
          <p:cNvSpPr/>
          <p:nvPr/>
        </p:nvSpPr>
        <p:spPr>
          <a:xfrm>
            <a:off x="1650600" y="1676520"/>
            <a:ext cx="45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L’ intelligence artificiell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tapis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4876920" cy="36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AtomD 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D31C-A602-4D30-A6BE-67EAE750175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9720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Ce qui a été réalisé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10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"/>
          <p:cNvSpPr/>
          <p:nvPr/>
        </p:nvSpPr>
        <p:spPr>
          <a:xfrm>
            <a:off x="1066680" y="2286000"/>
            <a:ext cx="7734600" cy="19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- Le cub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- déplacement en damier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avec 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- déplacement par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basculement (à finaliser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70080" y="3030480"/>
            <a:ext cx="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frame0022" descr=""/>
          <p:cNvPicPr/>
          <p:nvPr/>
        </p:nvPicPr>
        <p:blipFill>
          <a:blip r:embed="rId1"/>
          <a:stretch/>
        </p:blipFill>
        <p:spPr>
          <a:xfrm>
            <a:off x="152280" y="2362320"/>
            <a:ext cx="4343400" cy="347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goAtomD 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D1E0-CBD0-415D-AB9D-E02F80FFD9D1}" type="slidenum">
              <a:t>32</a:t>
            </a:fld>
          </a:p>
        </p:txBody>
      </p:sp>
    </p:spTree>
  </p:cSld>
  <p:transition>
    <p:cover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334800"/>
            <a:ext cx="97203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Ce qui a été réalisé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11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"/>
          <p:cNvSpPr/>
          <p:nvPr/>
        </p:nvSpPr>
        <p:spPr>
          <a:xfrm>
            <a:off x="1447920" y="2362320"/>
            <a:ext cx="7734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- La rou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- déplacement par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basculement (à finalise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70080" y="3030480"/>
            <a:ext cx="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frame0003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4572000" cy="36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goAtomD 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96A9-48CC-49FB-B640-5A79BEE6641C}" type="slidenum">
              <a:t>33</a:t>
            </a:fld>
          </a:p>
        </p:txBody>
      </p:sp>
    </p:spTree>
  </p:cSld>
  <p:transition>
    <p:cover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972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Ce qui reste à faire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198108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- Les frottements au bout des pattes sont insuffisants pour faire avancer les moléc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2743200"/>
            <a:ext cx="746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Les molécules roue et cube n’ont pas leur  déplacement par basculement implant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-232200" y="3505320"/>
            <a:ext cx="758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Les tests restent à fair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de vitesse de dépla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de fréquence de mouv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de stabilit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AtomD 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3C8A-222D-4554-BD33-E05A009EC91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304920"/>
            <a:ext cx="972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cc"/>
                </a:solidFill>
                <a:latin typeface="Comic Sans MS"/>
              </a:rPr>
              <a:t>Gestion du temp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43000" y="1905120"/>
            <a:ext cx="76201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pécificati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Gestion progressive du projet, des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éunions toutes les semai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dage :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Décision de séparer la construction des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olécules et l’implémentation des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lgorith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Dans la pratique, réalisation commune des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lgorithmes de déplac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AtomD 200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1B3E-EB0B-46E9-8162-45B57A33B4E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31280" y="216000"/>
            <a:ext cx="8263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cc"/>
                </a:solidFill>
                <a:latin typeface="Comic Sans MS"/>
              </a:rPr>
              <a:t>Conclusion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1981080"/>
            <a:ext cx="82296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Nous espérons que notre travail a fait et fera avancer le projet MA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Pour notre part, nous avons pu développer de nouvelles capacité en C++, ainsi que l ’utilisation d ’une AP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De plus,  cela nous a permis de nous familiariser avec le travail de groupe et d ’apercevoir les problèmes pouvant en découl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goAtomD 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82A3-99D8-414F-82B6-3D1A87E7AF6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972036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2323dc"/>
                </a:solidFill>
                <a:latin typeface="Comic Sans MS"/>
              </a:rPr>
              <a:t>Présentation de </a:t>
            </a:r>
            <a:r>
              <a:rPr b="0" lang="fr-FR" sz="4800" spc="-1" strike="noStrike">
                <a:solidFill>
                  <a:srgbClr val="2323dc"/>
                </a:solidFill>
                <a:latin typeface="Comic Sans MS"/>
              </a:rPr>
              <a:t>l’existant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2743200"/>
            <a:ext cx="644688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Le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projet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Kochi 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MA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Le robot proto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Simul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goAtomD 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9E09C-F407-4A2A-B460-30E061F92721}" type="slidenum">
              <a:t>4</a:t>
            </a:fld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9720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résentation de l’existant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2133720"/>
            <a:ext cx="78310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-  Le projet MAA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fr-FR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lécule    = </a:t>
            </a:r>
            <a:r>
              <a:rPr b="0" lang="fr-FR" sz="2400" spc="-1" strike="noStrike">
                <a:solidFill>
                  <a:srgbClr val="ff0000"/>
                </a:solidFill>
                <a:latin typeface="Times New Roman"/>
              </a:rPr>
              <a:t>    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ome    |  </a:t>
            </a:r>
            <a:r>
              <a:rPr b="0" lang="fr-FR" sz="2400" spc="-1" strike="noStrike">
                <a:solidFill>
                  <a:srgbClr val="ff0000"/>
                </a:solidFill>
                <a:latin typeface="Times New Roman"/>
              </a:rPr>
              <a:t>   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ome    + </a:t>
            </a:r>
            <a:r>
              <a:rPr b="0" lang="fr-FR" sz="2400" spc="-1" strike="noStrike">
                <a:solidFill>
                  <a:srgbClr val="ff0000"/>
                </a:solidFill>
                <a:latin typeface="Times New Roman"/>
              </a:rPr>
              <a:t>   M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léc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4876920"/>
            <a:ext cx="72072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- Michel Dubois et Yann Le Guyadec chercheurs au laboratoire Valoria de l’UB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3276720"/>
            <a:ext cx="70228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- MAAM : création de robots capablent de se connecter entre eux pour former des structures adaptées à l'environn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goAtomD 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A8EF6-CFBF-4512-916F-2C2552C50E07}" type="slidenum">
              <a:t>5</a:t>
            </a:fld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9720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Présentation de l’existant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133720"/>
            <a:ext cx="7831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Le robot proto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943600" y="2590920"/>
            <a:ext cx="2709720" cy="2425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676520" y="2971800"/>
            <a:ext cx="410832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- Un noy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- Six pat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-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Deu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 servos-moteurs par pat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- Et plus tard  des capteurs (accéloromètre, gyromètre,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5105520"/>
            <a:ext cx="70689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Dans cette version, il n'est pas autonome, les mouvements sont contrôlés de l'extérie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goAtomD 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E0D39-D9FA-4631-9E25-B73C54EFA2E9}" type="slidenum">
              <a:t>6</a:t>
            </a:fld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9720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Présentation de l'existant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1981080"/>
            <a:ext cx="4952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Le simulateur Simula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248520" y="4038480"/>
            <a:ext cx="3024000" cy="21002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676520" y="2743200"/>
            <a:ext cx="7619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- Représentation virtuelle de ce que pourront réaliser les modules  robotiques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4724280"/>
            <a:ext cx="4124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- Affichage en trois dimensions par Ubersim (s'appuyant sur OpenGL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3657600"/>
            <a:ext cx="7601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- Utilisation de l’environement physique 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(Open Dynamic Engin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goAtomD 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D6EE-908F-4BBB-8F45-286094FA357F}" type="slidenum">
              <a:t>7</a:t>
            </a:fld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9720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323dc"/>
                </a:solidFill>
                <a:latin typeface="Comic Sans MS"/>
              </a:rPr>
              <a:t>Cahier des charg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1500120" y="2055960"/>
            <a:ext cx="773424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Réaliser des algorithmes de création et de déplac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70080" y="3030480"/>
            <a:ext cx="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3505320"/>
            <a:ext cx="69976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Tester le bon fonctionnement de l'AP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01840" y="4659480"/>
            <a:ext cx="71467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54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Trouver de nouvelles fonctionnalités à implan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goAtomD 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016F-D3EA-4839-A0D7-A4EC33EDD630}" type="slidenum">
              <a:t>8</a:t>
            </a:fld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720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2323dc"/>
                </a:solidFill>
                <a:latin typeface="Comic Sans MS"/>
              </a:rPr>
              <a:t>Solution proposée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"/>
          <p:cNvSpPr/>
          <p:nvPr/>
        </p:nvSpPr>
        <p:spPr>
          <a:xfrm>
            <a:off x="1500120" y="2055960"/>
            <a:ext cx="773424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Réalisation d'algorithmes pour des molécules donné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70080" y="3030480"/>
            <a:ext cx="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3124080"/>
            <a:ext cx="774216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Une interface simplifiant l'utilisation des algorith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4267080"/>
            <a:ext cx="704844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Recherche des fonctionnalités prioritaires à implan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00120" y="5491080"/>
            <a:ext cx="6813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Kochi Gothic"/>
              </a:rPr>
              <a:t>Diagramme de classes résult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goAtomD 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7F89-1B2D-4A0A-8970-EEFF33AB94E2}" type="slidenum">
              <a:t>9</a:t>
            </a:fld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UCARD Olivier</cp:lastModifiedBy>
  <dcterms:modified xsi:type="dcterms:W3CDTF">2004-03-30T08:46:19Z</dcterms:modified>
  <cp:revision>116</cp:revision>
  <dc:subject/>
  <dc:title>AlgoAtomD</dc:title>
</cp:coreProperties>
</file>